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3F4-4422-47E3-BDD9-FD0AF012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360-164A-48D7-A4AE-166D8235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373-5228-4DD4-9E59-2A8B9FCD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FC6-0149-4D4F-8E07-AD498090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0004-07A3-4473-984F-3A4D8FCD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5848-9F37-4670-8344-EB6AB343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1C5E-54B6-4486-BF8F-1BCF231F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25D9-1354-4667-88D5-908A1FEA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18E6-45FC-42F8-B9A3-24934102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9F67-998B-4C99-8E5C-6C8F240D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AD4F-A2A9-4434-9171-FBE7508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B55-6650-4FA1-BE22-7F006BC3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0D8B-A814-410F-95BD-06335041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6F93-11B5-410B-9D24-1EB2C504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6F8B-78B6-46C5-86F8-8911194E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F4BB-D4F5-4BE6-AA9F-03BB25A2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EA70-AF5B-4289-ADB3-357B45BF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59D-63A0-4FB2-A0B7-9E34B263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A39-451C-4C09-91A1-683C71C6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09A-6D17-41C7-9473-7B803A1C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352-3BE6-462D-9D62-7A7121A2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036-D7FE-4D2F-9201-528B9279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F17-8490-47F2-B914-C86A320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276-ABF8-4769-A774-EBA3E1F7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D72-8793-46FE-9A16-0C6D49B4941F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BF70-6298-4D22-B0EA-9719036B711B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cc"/>
                </a:solidFill>
                <a:latin typeface="Arial"/>
              </a:rPr>
              <a:t>Chapitre 1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32000" y="38606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L’Autonomis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hm00376_[1]"/>
          <p:cNvPicPr/>
          <p:nvPr/>
        </p:nvPicPr>
        <p:blipFill>
          <a:blip r:embed="rId1"/>
          <a:stretch/>
        </p:blipFill>
        <p:spPr>
          <a:xfrm>
            <a:off x="324000" y="333360"/>
            <a:ext cx="1898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’autonomisation: un casse-tê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y a cinq pièces import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Si les individus deviennent autonomes dans ces domaines, ils atteindront l’autonomisation personn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6" descr="MCj03115260000[1]"/>
          <p:cNvPicPr/>
          <p:nvPr/>
        </p:nvPicPr>
        <p:blipFill>
          <a:blip r:embed="rId1"/>
          <a:stretch/>
        </p:blipFill>
        <p:spPr>
          <a:xfrm>
            <a:off x="5364000" y="4311720"/>
            <a:ext cx="321480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Les cinq pièce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cc6600"/>
                </a:solidFill>
                <a:latin typeface="Tahoma"/>
              </a:rPr>
              <a:t>Économiqu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33cc33"/>
                </a:solidFill>
                <a:latin typeface="Tahoma"/>
              </a:rPr>
              <a:t>Politiqu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0066"/>
                </a:solidFill>
                <a:latin typeface="Tahoma"/>
              </a:rPr>
              <a:t>Culturel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cc6600"/>
                </a:solidFill>
                <a:latin typeface="Tahoma"/>
              </a:rPr>
              <a:t>Socia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Tahoma"/>
              </a:rPr>
              <a:t>Nationa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L’autonomisation économiqu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a science économiqu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est l’étude de la distribution des res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économique 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existe quand on possède suffisamment de richesse pour satisfaire ses besoins</a:t>
            </a:r>
            <a:r>
              <a:rPr b="0" lang="en-US" sz="3200" spc="-1" strike="noStrike">
                <a:solidFill>
                  <a:srgbClr val="e5b325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MCBS00508_0000[1]"/>
          <p:cNvPicPr/>
          <p:nvPr/>
        </p:nvPicPr>
        <p:blipFill>
          <a:blip r:embed="rId1"/>
          <a:stretch/>
        </p:blipFill>
        <p:spPr>
          <a:xfrm>
            <a:off x="6858000" y="478620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Arial"/>
              </a:rPr>
              <a:t>L’autonomisation politiqu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a politique: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désigne tout ce que nous faisons dans le but de nous organiser, de régler des problèmes et de prendre des décisions pour nos écoles, notre communauté et notre p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politiqu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consiste à avoir son mot à dire dans l’organisation des choses et dans la prise de décis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7858080" y="5286240"/>
            <a:ext cx="9144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’autonomisation culturel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a cultur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est un mode de vie. Cela inclut la nourriture, l’habillement, les croyances religieus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culturell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signifie pouvoir vivre sa culture, peu importe la taille du groupe qui la représente dans la sociét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643200" y="5357880"/>
            <a:ext cx="1656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’autonomisation socia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société: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comprend les personnes qui vivent, travaillent et s’amusent dans leur communauté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social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: tous les membres d’une société sont traités de façon juste et équi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C:\Users\lindsey.carleton\AppData\Local\Microsoft\Windows\Temporary Internet Files\Content.IE5\U3ZMG4N0\MC900439402[1].jpg"/>
          <p:cNvPicPr/>
          <p:nvPr/>
        </p:nvPicPr>
        <p:blipFill>
          <a:blip r:embed="rId1"/>
          <a:stretch/>
        </p:blipFill>
        <p:spPr>
          <a:xfrm>
            <a:off x="5500800" y="4786200"/>
            <a:ext cx="30718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’autonomisation nationa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Une nation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est un groupement de personnes qui vit dans un p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national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existe quand une nation a le pouvoir de prendre les décisions pour elle-même et pour son p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C:\Users\lindsey.carleton\AppData\Local\Microsoft\Windows\Temporary Internet Files\Content.IE5\03ESVLVG\MC900013163[1].wmf"/>
          <p:cNvPicPr/>
          <p:nvPr/>
        </p:nvPicPr>
        <p:blipFill>
          <a:blip r:embed="rId1"/>
          <a:stretch/>
        </p:blipFill>
        <p:spPr>
          <a:xfrm>
            <a:off x="7072200" y="1428840"/>
            <a:ext cx="166212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Arial"/>
              </a:rPr>
              <a:t>La dépend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’affaiblissement de l’autonomie – le processus qui mène à la dépend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La vie sans autonomie – les gens ont l’impression d’avoir peu de contrôle sur leur vie. Ils pensent qu’ils n’ont pas le pouvoir de faire des choix concernant des choses importants pour eu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s droits de la person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es droits de la personne – assurent l’autonomisation économique, politique, culturelle et sociale des individ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Au Canada, les positions sur les droits de la personne ont changé après des ans pour améliorer les vies des citoye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Toutefois, tout n’est pas parfait. Plusieur groupes continuent leurs efforts pour que la société canadienne reconnaise davantage leurs droi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de revi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Réponds aux questions suivant en phrases complèt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-ce que c’est le définition de pouvoi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Donne un exemple de pouvo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-ce que c’est le définition d’autorité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Donne un exemple d’autori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 que c’est le définition d’autonomisa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elles sont les 5 types d’autonomisa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-ce que c’est l’autonomisation personnel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-ce que c’est la dépendanc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Nomme un groupe dans la société qui a perdu son autonomi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-ce que c’est les droits de la personn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**Vous devez aussi savoir le carte du Canada (provinces, avec le correcte orthographe, seulement.)*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 pouvoi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Tahoma"/>
              </a:rPr>
              <a:t>Qu’est-ce que c’est le </a:t>
            </a:r>
            <a:r>
              <a:rPr b="0" lang="fr-CA" sz="3600" spc="-1" strike="noStrike" u="sng">
                <a:solidFill>
                  <a:srgbClr val="ffffff"/>
                </a:solidFill>
                <a:uFillTx/>
                <a:latin typeface="Tahoma"/>
              </a:rPr>
              <a:t>pouvoir</a:t>
            </a:r>
            <a:r>
              <a:rPr b="0" lang="fr-CA" sz="3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La capacité et la force de faire quelque ch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Une personne doit avoir l’autorité d’exercise le pouvo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Ex: On élu les politiciens – on donne l’autorité aux politiciens d’exercise le pouvo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j0404337[1]"/>
          <p:cNvPicPr/>
          <p:nvPr/>
        </p:nvPicPr>
        <p:blipFill>
          <a:blip r:embed="rId1"/>
          <a:stretch/>
        </p:blipFill>
        <p:spPr>
          <a:xfrm>
            <a:off x="7093080" y="189000"/>
            <a:ext cx="13618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Arial"/>
              </a:rPr>
              <a:t>Plan d’action pour étudier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Relis chapitr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Révise les réponses pour les questions de rév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Mémorise le carte du Canada (avec le correcte orthographe pour les provinces et territoires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Devoirs: Sous la loup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isez pages 16 – 19 enc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Répondez aux question #1, 2 et 3 de page 20 sur un feuil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Copiez la question and écrivez vos réponses en phrases comple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4859280" y="4724280"/>
            <a:ext cx="15685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iagram 4" descr=""/>
          <p:cNvPicPr/>
          <p:nvPr/>
        </p:nvPicPr>
        <p:blipFill>
          <a:blip r:embed="rId1"/>
          <a:stretch/>
        </p:blipFill>
        <p:spPr>
          <a:xfrm>
            <a:off x="633240" y="493560"/>
            <a:ext cx="808992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Autorit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Qu’est-ce que c’est l’</a:t>
            </a:r>
            <a:r>
              <a:rPr b="0" lang="fr-CA" sz="3200" spc="-1" strike="noStrike" u="sng">
                <a:solidFill>
                  <a:srgbClr val="ffffff"/>
                </a:solidFill>
                <a:uFillTx/>
                <a:latin typeface="Tahoma"/>
              </a:rPr>
              <a:t>autorité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e5b325"/>
                </a:solidFill>
                <a:latin typeface="Tahoma"/>
              </a:rPr>
              <a:t>L’autorité donne le droit à une personne de prendre des décisions dans une situation pré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Exemp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M. Butler a la pouvoir de faire suspendre les étudiantes parce que il a été donner l’autorité par le distri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Arial"/>
              </a:rPr>
              <a:t>Pouvoir et Autorit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mple d’autorit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uvoir de cette person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pitaine d’une équipe de socc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ésident d’un conseil étudi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rétaire d’éc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ef dans le mouvement des gu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voi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Faire une recherche dans les journaux et les autres médias afin de trouver des personnes en situation d’autorité et pourquoi elles ont du pouvoi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4357800" y="1857240"/>
            <a:ext cx="4572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’autonomisation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ffffff"/>
                </a:solidFill>
                <a:uFillTx/>
                <a:latin typeface="Tahoma"/>
              </a:rPr>
              <a:t>L’autonomisation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fr-CA" sz="3200" spc="-1" strike="noStrike">
                <a:solidFill>
                  <a:srgbClr val="ffc000"/>
                </a:solidFill>
                <a:latin typeface="Tahoma"/>
              </a:rPr>
              <a:t>d’être donner l’autorité d’exercise le pouvo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Autonomisation: empower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D’ être habilité : to be empow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M. Butler est habilité de fai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suspendre les étudia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j0334014[1]"/>
          <p:cNvPicPr/>
          <p:nvPr/>
        </p:nvPicPr>
        <p:blipFill>
          <a:blip r:embed="rId1"/>
          <a:stretch/>
        </p:blipFill>
        <p:spPr>
          <a:xfrm>
            <a:off x="6012000" y="4292640"/>
            <a:ext cx="1662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’autonomisation personnel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personnell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consiste à être capable d’agir en fonction de ses besoins, de ses désirs, de ses opinions, de ses croyances et de ses senti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cc33"/>
                </a:solidFill>
                <a:latin typeface="Script MT Bold"/>
              </a:rPr>
              <a:t>Vous avez pris les premiers étapes vers l’autonomisation personnelle juste par être ici a l’éco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Devoi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Complet 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Script MT Bold"/>
              </a:rPr>
              <a:t>‘</a:t>
            </a:r>
            <a:r>
              <a:rPr b="0" lang="fr-CA" sz="3200" spc="-1" strike="noStrike">
                <a:solidFill>
                  <a:srgbClr val="ffffff"/>
                </a:solidFill>
                <a:latin typeface="Britannic Bold"/>
              </a:rPr>
              <a:t>Autoportrait dans vingt ans</a:t>
            </a:r>
            <a:r>
              <a:rPr b="0" lang="fr-CA" sz="3200" spc="-1" strike="noStrike">
                <a:solidFill>
                  <a:srgbClr val="ffffff"/>
                </a:solidFill>
                <a:latin typeface="Script MT Bold"/>
              </a:rPr>
              <a:t>’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à l’aide des questions suivante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Quel âge auras-tu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Quelles études postsecondaires auras-tu suivies ou seras-tu en train de suiv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Quelle carrière auras-tu entrepris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Quelle sera ta coiffu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Comment t’habilleras-tu (selon ta carrière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Où vivras-tu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Quels seront tes passe-temp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Seras-tu marié ou célibatai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À quelles activités communautaires et sociales participeras-tu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Donne des exemples du pouvoir que tu aimerais détenir dans vingt a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0:02:59Z</dcterms:created>
  <dc:creator>menb</dc:creator>
  <dc:description/>
  <dc:language>en-US</dc:language>
  <cp:lastModifiedBy>School District 8</cp:lastModifiedBy>
  <dcterms:modified xsi:type="dcterms:W3CDTF">2010-10-04T15:11:19Z</dcterms:modified>
  <cp:revision>48</cp:revision>
  <dc:subject/>
  <dc:title>Chapter 1</dc:title>
</cp:coreProperties>
</file>